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png" ContentType="image/png"/>
  <Override PartName="/ppt/media/image8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6798-714C-4975-ADF0-0BCE79B9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12EC8-0CE0-43B0-B5C5-A851948F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AC221-174C-48A6-9CCE-5CBEC3EE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0179E-1346-429A-B303-78EAB947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4560-8B67-4264-A22F-5EB2EF15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B684-1975-4667-B98C-39A3CD2C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E5F0-C2A5-48A6-B6F3-36EA7D91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5580-E489-497C-AF13-384C3449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B4E3-02D5-4248-9006-993A4452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D37B-3884-4B8F-B533-C2B881DA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6DF3-7272-48A7-A962-0F838720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C14E4-6E7D-427A-A729-D8D81817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2601-0680-4A6B-8ED3-5E65499D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A6B0-33C3-417B-B703-C85139ED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B99E-EC9E-4DBC-8110-6273B672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2490-2A53-4B4A-8890-FE139B68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0918-EC31-435B-9357-5F81D4B1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7D5F-63E6-4D6D-817B-9348FCF5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36AE-C336-4130-AF3E-004B0003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343C1-FB4A-4FB1-AA1C-A179D92E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05E64-CB44-48BD-8BDD-782D1C2C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1C593-D4BF-41AC-807A-7B8E0E64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D91F-0B36-425B-A41F-6AC016FF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9A988-01E1-4895-843E-A6BB50DC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45ED-30AA-496E-A354-0560B37D1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0208-5529-41A9-B2A5-7B1D1E9086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olive-drab.com/images/map_bulge_1944_full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14.5:  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The War End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lflagk"/>
          <p:cNvPicPr/>
          <p:nvPr/>
        </p:nvPicPr>
        <p:blipFill>
          <a:blip r:embed="rId1"/>
          <a:stretch/>
        </p:blipFill>
        <p:spPr>
          <a:xfrm>
            <a:off x="816120" y="20520"/>
            <a:ext cx="74898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Marines at Iwo Jima"/>
          <p:cNvPicPr/>
          <p:nvPr/>
        </p:nvPicPr>
        <p:blipFill>
          <a:blip r:embed="rId1"/>
          <a:stretch/>
        </p:blipFill>
        <p:spPr>
          <a:xfrm>
            <a:off x="1371600" y="380880"/>
            <a:ext cx="6400800" cy="60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.  The Atomic Bomb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Manhattan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 development of the atomic bom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enheimer; lead  scient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ing showed bomb had more power than predi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Picture 7" descr="200px-JROppenheimer-LosAlamos"/>
          <p:cNvPicPr/>
          <p:nvPr/>
        </p:nvPicPr>
        <p:blipFill>
          <a:blip r:embed="rId1"/>
          <a:stretch/>
        </p:blipFill>
        <p:spPr>
          <a:xfrm>
            <a:off x="4800600" y="1600200"/>
            <a:ext cx="3381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To Bomb or not to bom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Some against; immo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Some –use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.   as warning for Sovie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.  It’s built, so use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. Expense of m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Truman approves dropping bom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3.  Hiroshima and Nagasak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g 6, 1945: bomb dropped on Hiroshima; Japan does not surr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g 9,1945: second bomb dropped on Nagasa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 2, 1945  Hirohito formally surrenders to Gen. MacArth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8" descr="GENERAL DOUGLAS MACARTHUR &amp; EMPEROR HIROHITO AFTER SURRENDER CEREMONY"/>
          <p:cNvPicPr/>
          <p:nvPr/>
        </p:nvPicPr>
        <p:blipFill>
          <a:blip r:embed="rId1"/>
          <a:stretch/>
        </p:blipFill>
        <p:spPr>
          <a:xfrm>
            <a:off x="4419720" y="1752480"/>
            <a:ext cx="47242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3" descr="Image:Hiroshima aftermath.jpg"/>
          <p:cNvPicPr/>
          <p:nvPr/>
        </p:nvPicPr>
        <p:blipFill>
          <a:blip r:embed="rId1"/>
          <a:stretch/>
        </p:blipFill>
        <p:spPr>
          <a:xfrm>
            <a:off x="109440" y="995400"/>
            <a:ext cx="8926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youlose"/>
          <p:cNvPicPr/>
          <p:nvPr/>
        </p:nvPicPr>
        <p:blipFill>
          <a:blip r:embed="rId1"/>
          <a:stretch/>
        </p:blipFill>
        <p:spPr>
          <a:xfrm>
            <a:off x="4495680" y="914400"/>
            <a:ext cx="4318200" cy="571176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.  “Yalta Conference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d plans for the future and what to do with Germany and its terri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.  United Nations Form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 composed of countries willing to discuss matters before going to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Picture 3" descr=""/>
          <p:cNvPicPr/>
          <p:nvPr/>
        </p:nvPicPr>
        <p:blipFill>
          <a:blip r:embed="rId2"/>
          <a:stretch/>
        </p:blipFill>
        <p:spPr>
          <a:xfrm>
            <a:off x="2057400" y="2819520"/>
            <a:ext cx="466092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.  Nuremberg War Tria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als of  Nazi leaders at Nuremberg, Germ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2" name="Picture 6" descr="NurembergTrial_Jan5"/>
          <p:cNvPicPr/>
          <p:nvPr/>
        </p:nvPicPr>
        <p:blipFill>
          <a:blip r:embed="rId1"/>
          <a:stretch/>
        </p:blipFill>
        <p:spPr>
          <a:xfrm>
            <a:off x="1600200" y="1752480"/>
            <a:ext cx="6172200" cy="50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A.   Battle of the Bulge: Last German</a:t>
            </a:r>
            <a:br>
              <a:rPr sz="2800"/>
            </a:b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     Offensive (Belgium) (Dec. 1944)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 Allies caught off   gu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 Did not believe intelligence reports of imminent att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 Germany unable to recover the rest of the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9" descr="Map of the Battle of the Bul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1998720"/>
            <a:ext cx="45720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.  FDR Passes away</a:t>
            </a:r>
            <a:br>
              <a:rPr sz="4400"/>
            </a:b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pril 12, 1945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5" descr="fdr130"/>
          <p:cNvPicPr/>
          <p:nvPr/>
        </p:nvPicPr>
        <p:blipFill>
          <a:blip r:embed="rId1"/>
          <a:stretch/>
        </p:blipFill>
        <p:spPr>
          <a:xfrm>
            <a:off x="990720" y="1523880"/>
            <a:ext cx="7619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esident Harry Truma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2622600" y="1601640"/>
            <a:ext cx="9144000" cy="360"/>
          </a:xfrm>
          <a:prstGeom prst="rect">
            <a:avLst/>
          </a:prstGeom>
          <a:solidFill>
            <a:srgbClr val="ff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5" descr="A middle-aged Caucasian male wearing a dark business suit and wireframe glasses is depicted smilingly pensively at the camera in a black-and-white photo."/>
          <p:cNvPicPr/>
          <p:nvPr/>
        </p:nvPicPr>
        <p:blipFill>
          <a:blip r:embed="rId1"/>
          <a:stretch/>
        </p:blipFill>
        <p:spPr>
          <a:xfrm>
            <a:off x="2438280" y="1238400"/>
            <a:ext cx="441972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C.  Hitler and wife commit suicide</a:t>
            </a:r>
            <a:br>
              <a:rPr sz="3200"/>
            </a:b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April 30, 1945</a:t>
            </a:r>
            <a:br>
              <a:rPr sz="4000"/>
            </a:b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2727360" y="1355760"/>
            <a:ext cx="9144000" cy="360"/>
          </a:xfrm>
          <a:prstGeom prst="rect">
            <a:avLst/>
          </a:prstGeom>
          <a:solidFill>
            <a:srgbClr val="ff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13" descr="File:Stars &amp; Stripes &amp; Hitler Dead2.jpg"/>
          <p:cNvPicPr/>
          <p:nvPr/>
        </p:nvPicPr>
        <p:blipFill>
          <a:blip r:embed="rId1"/>
          <a:stretch/>
        </p:blipFill>
        <p:spPr>
          <a:xfrm>
            <a:off x="2797200" y="1263600"/>
            <a:ext cx="38098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.  V-E Da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ctory in Eur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8, 19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o finish Ja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5" descr="vjkiss"/>
          <p:cNvPicPr/>
          <p:nvPr/>
        </p:nvPicPr>
        <p:blipFill>
          <a:blip r:embed="rId1"/>
          <a:stretch/>
        </p:blipFill>
        <p:spPr>
          <a:xfrm>
            <a:off x="4419720" y="1447920"/>
            <a:ext cx="3617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E.  Iwo Jima:  refueling and bombing Japan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6" name="Picture 3" descr="lflaga2"/>
          <p:cNvPicPr/>
          <p:nvPr/>
        </p:nvPicPr>
        <p:blipFill>
          <a:blip r:embed="rId1"/>
          <a:stretch/>
        </p:blipFill>
        <p:spPr>
          <a:xfrm>
            <a:off x="1447920" y="990720"/>
            <a:ext cx="64767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8" name="Picture 5" descr="File:Iwo-to landsat1999.jpg"/>
          <p:cNvPicPr/>
          <p:nvPr/>
        </p:nvPicPr>
        <p:blipFill>
          <a:blip r:embed="rId1"/>
          <a:stretch/>
        </p:blipFill>
        <p:spPr>
          <a:xfrm>
            <a:off x="743040" y="0"/>
            <a:ext cx="743904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lflagi"/>
          <p:cNvPicPr/>
          <p:nvPr/>
        </p:nvPicPr>
        <p:blipFill>
          <a:blip r:embed="rId1"/>
          <a:stretch/>
        </p:blipFill>
        <p:spPr>
          <a:xfrm>
            <a:off x="1752480" y="-25560"/>
            <a:ext cx="5715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PER</cp:lastModifiedBy>
  <dcterms:modified xsi:type="dcterms:W3CDTF">2012-02-15T02:00:0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